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960-FA90-4B30-BDED-2E33AA74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A8D-40BE-456A-8BBF-1A661C01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490C4-C242-40B3-81C1-662EF9C1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DC21A-07A1-4551-9F2D-1C90AEC5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FED49-E0E6-4E90-8D60-B68E49B5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C6226-80B3-43E3-A511-C6D3C78E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A4EF1-C226-41C1-B3AA-54218962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E4467-DDA3-4250-BF96-60E729CD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A094E-6DC3-49B4-81E3-B7D904C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22C3F-268D-4382-80E2-E33B9487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32419-87E0-40C5-9EFA-B588F74A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6428D-B6AA-4173-981A-949B6AAB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F22-6AC0-40B2-8563-0FEA95E6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3160F-735E-4239-AD3C-7EAB9466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32B1D-0547-4531-BDED-29639BE8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8FD92-5E82-4B2F-950A-17BFCA8C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200CA-5CED-4BF2-B802-8E02D657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1D924-91D3-401C-B660-BA712FEA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FF49E-88AC-4A31-BAE4-500BF9F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BEA6E-8838-4033-98AC-5610AF7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018B1-8505-495D-A954-A09E875A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A9EBF-FDB4-4EA4-9836-218D5C0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93EE5-4F5B-4C4C-8642-F3CBBF87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D13-4AB7-4EF7-AC8F-8939055A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BE876-6D55-40ED-9D68-08C44927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1747B-8301-45B0-99EA-8C146FFA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55C49-9EEF-4109-8E1A-4559D913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DC636-E4FF-488E-9495-C31D6EE1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65530-86CA-4ADD-B403-00DA91B0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DF3FF-249D-4F2C-9FC2-776E08D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6546-7BC4-46C8-91AE-8261DD8F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186EC-A81A-481C-8DDD-1307D75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E94DF-9193-4C13-B779-E3F9437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F1A56-C175-45D1-93C1-579F828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A93-E280-473A-8D86-355AC2AB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608EF-027A-44F3-B03F-A24546B3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44C1-0073-47F5-9367-D7954A6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F44EE-72D0-4AD8-89C9-C7BD357D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98ECB-BA82-4F7B-A7EA-1080D094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A9A60-2A46-47F8-B5CF-C6BB7D2A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AAAC5-6DB2-4AEF-B008-61969086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D8455-BA75-4368-9FFF-2C38C2FF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FC771-C9F9-4C65-BEAC-43CC5F9D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49583-0A57-45F1-A171-F8CD7548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A0DF8-A783-4F18-B28C-9869B37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CD56-287A-487E-AEB4-B6CC199E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2C9A1-F0E1-4A2D-A9F7-60C4EB3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2B065-AB46-42A4-B42F-7EC45E1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E27FD-FB55-4AD1-B006-AEDCBEFC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5B1BB-7B72-4C6D-9721-7F08EB00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4F3C0-A0C1-49A5-B670-A47187A8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F150-6975-4681-94C5-8C0F9497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A748-0568-4640-A17D-AE8FC1E5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EAE7-172A-4D4F-BAFB-236F0641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C018-3638-466F-A939-2DFE1717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7FA0-241A-4148-989F-D9CBFF7E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4FF-56B0-4FC8-8919-7F25EED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FCB-BE83-484A-9C1A-EB11309B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9097-4732-4D77-9FE6-2C3439A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94A6-5BBE-4B54-B8B0-E82EDE39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3AC7-C000-4AA4-91EA-92943B51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8D40-3553-43F1-81EC-0384460C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14C5-43C0-4823-B931-F77BE3E4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47B4-259A-45F7-9F70-E26F1D2C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BF77-2CEF-4423-8F9B-480A9A93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7DB3-1DB7-4C41-97F8-78497765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EEB3-A0D5-4274-B711-5EEF6A3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5D5-A21D-42FB-80ED-569EA03A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90B9-1D22-487D-B331-144A4FAE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CEC0-2705-4456-A19F-AB2294F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9665-AB53-4680-BE6F-C0363494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03BE-1BEB-4BE0-83CA-BA95275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631D-9F3B-4430-9ED5-115BF16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D3CE-C8D1-4B42-BBB4-E22B140A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B873-0114-4D1F-B661-5099F665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CD17-9070-487B-A158-AC302221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43DA-7FB6-413D-9525-D33AE010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677D-25D5-4B16-BFD4-6DADDC1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A2D-15E1-4B6B-B079-D193AB87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014C-5260-4FAB-ABCF-A290B6AF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3EEC-43E7-4FDA-B429-57C89CA4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AF67-F6B7-47CB-BD83-73FDA8C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8C538-E5C7-46DB-90B3-5B42DB76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01BF0-DAC6-4CCD-B959-88950CF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8B13-4673-401E-9653-EFF99C82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24F8-1DC5-4606-8718-7C2B443B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54D42-78A5-4044-931D-8A645B08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15AA-9B7D-4503-8947-DF806406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0FD1-E8DB-4101-AC01-BA763ED6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D34-7268-4441-9DDC-063538FD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8D9E-7BCC-42FE-9AD0-792B447C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CBEA-A68F-4061-8CD0-A06F67E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44AF-9E65-42F0-BA38-8E5ADCC2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62C5-4D31-46CE-9E72-B1437C22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8BC72-D885-40C4-99AE-FD606E7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A3C52-8FD6-43E0-85ED-49D3DFF8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782C-8678-4623-B845-8A287B17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F5DC1-FE1C-44AB-A238-C1E6091C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FC5C-9808-4CD6-B74A-976C880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9E75-4718-4874-A9E9-CE5C9EBF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974-D05C-4A8E-A31D-7787F94A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E44AD-9E01-4003-92BA-F697D038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81C0-7B22-4D5D-8197-16E17198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C4EE-7356-4CFB-8858-BC10F9F1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80C4-EB13-4F41-B226-96DCA941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49B9-375D-4FAD-B968-996CC2C3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275B4-1E8E-4434-B47F-7802B517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E4B1-6A23-4207-A0B8-70BF38CE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9D58-FBBD-493D-8C71-00D0B91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EC89-F2D5-4C88-90BC-AE5A23B7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17E97-4884-4167-A0F9-DD926F1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E92-AACF-47B9-81EE-BFFD81F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0617-59C3-49A1-B5F5-F5B4DD90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EBFA-B057-4645-88E4-E7D264E6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71CEB-6436-45A4-8FBC-33EB4961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0E4D4-451C-490D-AD5D-CE8B668E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EC4E-1FB9-40AD-8957-198E02A2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E6931-2815-465C-861A-0647427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BA09-A714-4745-BB26-F886656F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65FC2-0506-4BF3-994A-0E3C450E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2A738-B35E-4268-B208-F157776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6A890-1236-42CD-9504-5CB337B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195-5612-4F52-B6E9-4EDE64E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56CA3-533E-4DF6-8D23-EEE4D9E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BD7F-9AD1-482D-BEC8-A303B07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D6BEC-226A-4396-BEFB-573A2342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8263-7DD7-448A-9C94-6A4FF6BC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FBE9-27C6-4758-85DF-675565FD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B0ED5-25CD-4EC2-8AE3-55D94A7C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D6241-B9D2-4923-AB0B-08680DEA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76BA9-9618-4E41-8D06-BD5124DC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B2926-7864-4FC0-BEA6-C1296863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483A-33B9-47B6-8F11-ED1A55CE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E0E-EC05-4813-BA67-3DDBF72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B1461-9D3F-481F-9223-F9B013B1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8CC7-C4DF-4A16-910A-029DFD9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6E2F9-F314-4700-A8E8-84152722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B9F98-CA80-4277-AF56-959788D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ECDAB-D067-4737-B1A3-F63BE861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0DA37-E5CF-4751-8F18-CD274FAA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288B9-9B4C-4824-A3FD-7B8EEA48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D70B3-A02D-4D8E-87AD-DBE418E7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DB9F4-28AE-42A3-9B68-920993B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4C3DB-5915-407E-A577-0FE377C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AE018-59EC-4130-8289-476F4A3899E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8529B-CBCD-4838-AE09-85068DADE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C456F-2592-490C-B547-4C2AA132C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C55CC-0B55-4DE7-AF15-782E0B5FB22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72E52-3EAD-4E0B-A44B-865565DF5A7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7F9BF-97FD-4C83-82E8-41A1F94A4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BCAB3-81A1-4721-8C5E-5240CC133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645C6-C0E0-4BB7-A84D-BD8A2857142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70436-465E-4715-80C4-5C674F94ED2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DFFB0-D032-4481-99A8-D8ED06BD1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B9534-44B2-41E2-97DB-7200A0904AD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E6802-6706-4119-A2F0-F623B5D3F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B1F41-89CC-445E-B6F1-B979D10D1CF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E9BC6-255B-4836-BBE9-5E0322EA9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78E1F-3018-4FFA-99B5-A96B56E1DF5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0211E-D00F-43E4-B401-8B90B6D370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B9AA0-D564-4707-AA81-DC6A3AD1C6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CFF0B-0516-4734-AB2A-37A6F4C6D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2F7DE-751A-4021-B491-2993077F42C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5F507-662E-453F-94BB-4866A771B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34EB2-4A57-4B02-808D-A88BC7A007A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9C4D0-33E9-4D78-A9D1-E19FE7E3D2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9E5DD-FABD-48E3-9A38-D1914B358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A2EF1-3C0E-4DF4-B031-AC489E645EF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865-190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5: America Moves to the Cit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venging Little Big Hor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z Perces Indians were tricked into thinking they were being sent to their ancestral lan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ctually sent to a reservation in Kansas, 40% of them died of diseas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ache tribes most difficult to subd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ed by Geronimo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ventually surrendered after women exiled to Florid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came successful farmers in O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ming” of Indians was engineered by railroad, disease &amp; alcoh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7845480" y="3435480"/>
            <a:ext cx="1052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erds of Biso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ison were the staff of life for Native America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vided clothing &amp; harnesse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uffalo Bill” Cody- killed over 4,000 bison in 18 month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lain for their hides, tongues or for sheer amuseme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806400" y="4213080"/>
            <a:ext cx="3270240" cy="21877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5526000" y="3932280"/>
            <a:ext cx="24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d of the Trail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on began to realize horrors it had committed upon India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umanitarians wanted to treat Indians kindl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Dawes Act of 1887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dissolved tribes as legal entities, wiped out tribal ownership of land &amp; set up Indian family heads w/ 160 acres of 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f Indians behaved like “good white settlers,” they would get full title to land &amp; citizenship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gnored traditional Indian cultur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Goal was to stimulate assimilation of Indians into American socie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in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ld &amp; silver discovered in the Rockies in 1858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59ers” or “Pikes Peakers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ings of the Comstock” in Nevada mined silver to an amount worth more than $340 mill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men gained right to vote in Western states long before women of the ea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ontier mining brought wealth &amp; population to we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Author 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- Who created the source? What is their point of view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Place and Tim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Where and when was the source produced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Prior Knowledg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at do you already know that would further your understanding of this sources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Audien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For whom was the source created? Does this affect the reliability of the source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Reason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y was this source produced at the time is was produced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The Main Idea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at is the source trying to convey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* </a:t>
            </a: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Significan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 - Why is this source important?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Urban Frontier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y 1890 New York, Chicago &amp; Philadelphia had more than 1 million inhabita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ities grew up &amp; o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kyscrap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tractions to a city: electricity, plumbing &amp; telephones (industrial job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lums grew more crowded and filth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2212920" y="4737240"/>
            <a:ext cx="1401840" cy="1841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991120" y="4737240"/>
            <a:ext cx="245124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706320" y="417600"/>
            <a:ext cx="7893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w Immigr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fter 1880s, immigrants came from southern &amp; eastern Euro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talians, Croats, Slovaks, Greeks, Pole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feared they could not assimilate to life in the new l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3267000" y="3530520"/>
            <a:ext cx="44164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arrowing the Welcome Mat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tiforeignism, or nativism, returned w/ new immigrant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Worried that Americans would soon be outnumbered &amp; outvoted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merican Protective Association (APA): nativist goal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1 million memb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rged voting against Roman Catholics for offic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882- law passed requiring paupers, criminals &amp; convicts to return to their countri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885- Congress prohibits importation of foreign workers under contrac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ooker T. Washington vs. W.E.B. Dubois 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shingt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lf- help approach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pported segregation if the economic &amp; educational resources of the black community were developed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conomic independenc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voided issue of social equal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.E.B. Dubois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riticized Washington for condemning blacks to manual labor &amp; inferiority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manded complete equality for black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elped found the NAACP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865-189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hapter 26: The Great West &amp; Agricultural Revolution 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Clash of Cultures on the Plain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ve Americans numbered about 360,000 in 186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tes spread diseases to Native Americ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eaties signed w/ chiefs of tribes at Ft. Laramie &amp; Ft. Atkinson in 185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ginning of reservation syste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stablished boundaries for the territory of each trib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eat Sioux Reservation” in Dakota Territory &amp; “Indian Territory” in Oklahom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ceding Native Populatio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Sand Creek, Colorado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Militia massacred 400 Indians who apparently posed no threat (promised immunity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oux war party ambushed 81 soldiers &amp; civilians at Bighorn Mountai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illed all 81 people &amp; mutilated corp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ne of the few Indian triumph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ld discovered on Sioux reserva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ster’s Seventh Cavalry sent to suppress Indian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valry completely wiped out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attle of Little Big Horn”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7:11:30Z</dcterms:created>
  <dc:creator>Emily Johnson</dc:creator>
  <dc:description/>
  <dc:language>en-US</dc:language>
  <cp:lastModifiedBy>emily.johnson</cp:lastModifiedBy>
  <dcterms:modified xsi:type="dcterms:W3CDTF">2013-01-22T16:01:37Z</dcterms:modified>
  <cp:revision>3</cp:revision>
  <dc:subject/>
  <dc:title>Chapter 25: America Moves to the City</dc:title>
</cp:coreProperties>
</file>